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9C8-F948-4A6A-9333-4563A42B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AE6-90CF-4DB3-8B6F-7FA21452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02F-1F79-43EA-99C4-8E29AC3E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FFB-3ACB-48A3-9A5B-09F5456A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966-54FB-4FDC-896E-0CFA1B8A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13A-FF87-4CBB-9BFC-138F9742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43B-BDB4-432C-885D-1E1C5C2D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FAC-3826-48ED-AB86-5813C0AA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A9F-6A7F-4C50-A310-69B96FF6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657-85E0-4126-A3C6-8AE3FF1C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F37-EAA2-4B86-8644-5C2E0321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129-3AD5-42C3-9151-FFEBC31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E421-F7A6-439A-8233-4A06849ABF18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As Primeiras Deci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Imagem 4" descr="learning-egg-tempera-wide.jpg"/>
          <p:cNvPicPr/>
          <p:nvPr/>
        </p:nvPicPr>
        <p:blipFill>
          <a:blip r:embed="rId1"/>
          <a:stretch/>
        </p:blipFill>
        <p:spPr>
          <a:xfrm>
            <a:off x="395280" y="3429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2. Escolher 3 T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Para Trabalh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Marcador de Posição de Conteúdo 6" descr="DSCF0054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Para Apres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Marcador de Posição de Conteúdo 11" descr="DSCF0062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Calibri"/>
              </a:rPr>
              <a:t>Votar um dos 3 Temas para  começ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00000"/>
                </a:solidFill>
                <a:latin typeface="Calibri"/>
              </a:rPr>
              <a:t>As Possibilidades são Infin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Temas relacionados com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Anim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Univer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Ciê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Histórias Re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Histórias de Fic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Despor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Passatempos Favori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Viagens de Fér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Projectos de Futu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O novo Mundo da 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Tantos Outros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8" descr="DH000046_mini.jpg"/>
          <p:cNvPicPr/>
          <p:nvPr/>
        </p:nvPicPr>
        <p:blipFill>
          <a:blip r:embed="rId1"/>
          <a:stretch/>
        </p:blipFill>
        <p:spPr>
          <a:xfrm>
            <a:off x="3127320" y="1481040"/>
            <a:ext cx="5572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ixaDeTexto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00000"/>
                </a:solidFill>
                <a:latin typeface="Arial"/>
              </a:rPr>
              <a:t>Formas de Apresent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" descr="flores_mini.JPG"/>
          <p:cNvPicPr/>
          <p:nvPr/>
        </p:nvPicPr>
        <p:blipFill>
          <a:blip r:embed="rId1"/>
          <a:stretch/>
        </p:blipFill>
        <p:spPr>
          <a:xfrm>
            <a:off x="2492280" y="2789280"/>
            <a:ext cx="39528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Marcador de Posição de Conteúdo 3" descr="onda header 4.jpg"/>
          <p:cNvPicPr/>
          <p:nvPr/>
        </p:nvPicPr>
        <p:blipFill>
          <a:blip r:embed="rId1"/>
          <a:stretch/>
        </p:blipFill>
        <p:spPr>
          <a:xfrm>
            <a:off x="468360" y="3789360"/>
            <a:ext cx="8229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a6ca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aixaDeTexto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a9a9a9"/>
                </a:solidFill>
                <a:latin typeface="Arial"/>
              </a:rPr>
              <a:t>Critérios para Formar Grup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ixaDeTexto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4000" spc="-1" strike="noStrike">
                <a:solidFill>
                  <a:srgbClr val="c00000"/>
                </a:solidFill>
                <a:latin typeface="Arial"/>
              </a:rPr>
              <a:t>Formar Grup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aixaDeTexto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orquê Trabalhar em Grup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Marcador de Posição de Conteúdo 5" descr="pensar_com.pn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c00000"/>
                </a:solidFill>
                <a:latin typeface="Calibri"/>
              </a:rPr>
              <a:t>1. INVENTAR</a:t>
            </a:r>
            <a:br>
              <a:rPr sz="4000"/>
            </a:br>
            <a:r>
              <a:rPr b="0" lang="pt-PT" sz="4000" spc="-1" strike="noStrike">
                <a:solidFill>
                  <a:srgbClr val="c00000"/>
                </a:solidFill>
                <a:latin typeface="Calibri"/>
              </a:rPr>
              <a:t>3 Maneiras Diferentes de Formar</a:t>
            </a:r>
            <a:br>
              <a:rPr sz="4000"/>
            </a:br>
            <a:r>
              <a:rPr b="0" lang="pt-PT" sz="4000" spc="-1" strike="noStrike">
                <a:solidFill>
                  <a:srgbClr val="c00000"/>
                </a:solidFill>
                <a:latin typeface="Calibri"/>
              </a:rPr>
              <a:t>GRUPO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Marcador de Posição de Conteúdo 6" descr="DSCF1174ultramini.jpg"/>
          <p:cNvPicPr/>
          <p:nvPr/>
        </p:nvPicPr>
        <p:blipFill>
          <a:blip r:embed="rId1"/>
          <a:stretch/>
        </p:blipFill>
        <p:spPr>
          <a:xfrm>
            <a:off x="2743200" y="2637000"/>
            <a:ext cx="36576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eff4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or AMIG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Marcador de Posição de Conteúdo 3" descr="DSCF0086.JPG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or Talentos que se Complet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Marcador de Posição de Conteúdo 9" descr="DSCF197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or Tipo de Pesqui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Marcador de Posição de Conteúdo 7" descr="DSCF210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c8eff4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ixaDeTexto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00000"/>
                </a:solidFill>
                <a:latin typeface="Arial"/>
              </a:rPr>
              <a:t>Escolher Te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ara Quê  Escolher Tem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Vamos mais lo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Partilhamos mel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Marcador de Posição de Conteúdo 15" descr="DSCF0005.JPG"/>
          <p:cNvPicPr/>
          <p:nvPr/>
        </p:nvPicPr>
        <p:blipFill>
          <a:blip r:embed="rId1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4" name="Marcador de Posição de Conteúdo 17" descr="DSCF0021.JPG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20:59:53Z</dcterms:created>
  <dc:creator>Ines Pinto</dc:creator>
  <dc:description/>
  <dc:language>en-US</dc:language>
  <cp:lastModifiedBy>Ines Pinto</cp:lastModifiedBy>
  <dcterms:modified xsi:type="dcterms:W3CDTF">2011-05-14T23:46:00Z</dcterms:modified>
  <cp:revision>16</cp:revision>
  <dc:subject/>
  <dc:title>As Primeiras Decisões</dc:title>
</cp:coreProperties>
</file>